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662-EBF6-48AE-8CAE-548CA512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02D-E031-444A-AF9C-63D82B34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B6090-D370-4CEE-9FDF-40F315E2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AB031-892D-49BB-9207-5FCFE41A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41C11-499B-44D7-925A-227D1F08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78D1A-FC12-42E7-82F9-478E57E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07918-795E-41BF-B508-874E625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36A2B-EC26-4B15-B769-D09088B7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CB179-118B-4BE7-9BD4-0D1926FE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0B12-4E1C-4373-B7AB-2F22463C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189A2-232E-420B-9656-24BFC46E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2AFD0-A3C3-4DCE-A538-D1F4989D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F1A-4C81-4698-B1B6-B4199F6E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8E2DC-4D2C-4948-BF17-BBBA9C3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10CD2-4362-47DB-8871-DA3F4604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5FFAF-9EFC-4A94-AF19-49D285BC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42110-D833-412D-8DDB-3527863F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8D182-2494-4CD8-851D-3B76A8DA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6DBF6-16A2-400B-A3DB-918F65AB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E5648-86EF-4529-AEE3-022D6630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11951-5D41-451F-B5BA-CAAE2E8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12139-4763-4EDB-87A1-03FF31A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AB6E1-02D0-496F-AFA0-71125CAC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CD3-0EBA-4F4D-855E-5C917148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0CCD1-8159-48B6-8699-DE676F7A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86DC1-5E9D-499A-993F-408E45B0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CBC9-F344-4F11-8799-BECD7FF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3E38-B37A-4364-871E-90366E44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666CB-9B7D-4DD4-87D1-5A6973D1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4E271-C769-4529-8582-97F2B58A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D7251-2152-407D-9601-C718E20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D7D62-AD70-4B8F-8590-9348275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6A924-E280-419F-BB43-AD64CF4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090F7-81B2-43D2-B408-0510467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F1EA-4A50-4AB7-93E3-F786E261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C58EA-0D2E-40C9-BDD7-175CB26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E6320-EC19-448C-92EA-1D98E1AE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9A88E-8219-4D4B-93BA-0DEAF9BC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4686E-73E5-4A3B-A226-B6CF68A8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F488D-A5E5-44C2-88D5-6AB22F53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FF3E3-2413-4F4B-B952-AB55C2D3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ECCCD-4A22-4FA2-8A89-4862A4F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3CEB3-D9D1-4429-BBBB-8919B4A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2BBA0-EB45-49B6-8A95-6DEAC7E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FB28-A139-40AB-95E4-48147C77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574-81BB-4E0E-A827-7FA485AD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A5F4B-FCE3-407C-95A5-E5F15CB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BE916-83FA-4C41-98A2-F8F2DA6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3F0DF-F26E-49E9-B5EE-36EC625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53E99-F89E-48E4-810F-67E568A0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7D25E-B84D-4F35-9E3B-04C54745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0B74D-8394-4C7F-80CA-FE911C06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98B3B-7124-4455-8310-F4A7986B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F403C-6CBA-4238-A670-0258B759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23277-1D68-43EC-9C15-7CB48FB3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13FCF-30A0-4D22-BB6C-141DB85B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B82-DB1D-4409-9499-A95CAC6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6D529-514C-4A25-82A4-4C0DB35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E29B6-7F38-4DA9-A847-3EFD6A32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82614-3B59-4638-BC1E-003B41B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B2F60-924A-43D2-88EB-7E2BEBC0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4A013-3187-4477-AF8B-FFF102E6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6ECB4-E2F6-484E-942A-B06D88EF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F3995-B246-43CA-A96A-4B982E30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94839-25E0-4D21-979C-4527735C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1A0BD-8862-4446-BFC1-90608AB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31937-7EAB-4CC2-B81A-7526A0A8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F38C-F81A-4C18-8914-1A9EDA51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F1625-0FBF-49FD-8147-71D1F4C8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84E3B-A3A3-471D-86BE-E172CA78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102F2-8585-42CE-A876-A113BBF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19A2B-C69C-4412-A2F5-5CC8D98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DCBFC-48F0-459C-AC99-0A174D8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68F10-2B36-4F16-A261-081D067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50A31-44F4-4ACE-963F-D1179F0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20C25-D763-4581-88C4-D3B43A30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80EC8-A80A-4E12-A987-E7D89B9F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AA269-F5D6-440E-B780-036C5E71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DDFE-F3F2-4771-B068-F725294D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B1791-F417-41F7-98E3-CFF960D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54438-3186-4019-8EE1-BBD47D32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24C1C-BC48-4FBF-8A35-28F876C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75B92-4C22-4A43-B825-980731D0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F7E8C-850E-4236-907A-B5A7219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1B260-47B3-42F8-B857-FEF8049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C05B1-C93B-4A73-8BF5-BD612A1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529CE-08DB-4158-A32E-920780F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60A0D-E1B3-459C-87D7-0CFBACAA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47EBB-4C53-4D23-955E-2F3D1D20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90DD-D521-4D9F-A656-0C00EB2A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CD57B-4F13-4702-A53B-152C1AB5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6129D-D658-4C7D-A5D1-2C6FB310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E6972-F5C4-4FB0-BF05-3C6B7B39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F6510-AE47-4EB6-9041-4645F7A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74A71-E86C-4750-8F3F-138C39B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5F069-EE7D-48C1-A384-929FEBB1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56B2C-5538-4A6B-8645-320ADC1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BF1A4-59E3-4183-8AB1-948D45E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F767A-B9DE-48C4-B679-385F4CD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A0CFA-2ECD-4527-B0C5-DBB6F9A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7843-D0DB-4825-B82F-C48A03A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39AC0-29BA-45BD-A55C-D3CB064C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B7597-404D-474D-A143-35A12CEF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52354-38F5-4B04-BE66-95EF5C6C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AC579-D040-4178-9939-98ADADAD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19445-9B6A-4675-850D-02AC4C7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C908E-61F2-411F-90A2-12F4FE5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5FDA5-D9D9-4B01-9A02-E97564A4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F7DDF-1338-494C-965B-05FDD2A8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5A527-78CC-4315-ABC1-76701E18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AA821-8BBA-41F2-B954-6626ACE8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15D-B7ED-47D8-B172-CEA202B1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402B-0794-41E5-A694-B633D300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DEF62-0045-4CA6-9CFC-CE525DE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508026-FBE1-4115-85C3-DB71CCB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D4033-9C3E-4585-A290-F768EBF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1F93D-6F51-4F3F-A916-E020B07E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1A0E3-58B9-43A5-BB37-9E14D81D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CA145-4705-4752-A495-54D96733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75A85-B643-47E9-A4D4-9884001E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65312-802F-4519-9CE3-9AEEEE7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9779E-2630-4D18-BFA0-3379E07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CAAF9-AD37-457A-A9E6-8D9A1E76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BB8-8112-4E6E-BC94-D0EE2135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958A9-F6DA-4C3D-BDDD-35181C5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7E16D-7CCA-467F-AA94-4C1410F1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50163-4544-4E25-AEBD-1A847FF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11FBD-80F2-41CC-ADF6-5FE193F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BAFFC-162D-4D32-85D2-637FE812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48711-66C1-49D1-90C0-24F5120F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717A3-B4D9-46E9-B7BE-E17BD410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161C5-6D39-4A15-922E-31B0E8F8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ABDEC-2E9C-42F9-8C65-9945F3A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247C4-30B4-44FE-9CB5-0387F4C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3CA0-672C-479D-848C-DA1044AF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4283A-500C-4EF3-90C1-28FAB1E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C361E2-3A39-40B5-8344-3CD42C8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C33D8-E12F-47C3-B82D-F0DD3DE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ABA29B-30D3-46F0-B381-1DB00278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486CC-5A1A-4B46-A995-EED4CF1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3A8FF-B8B6-43A8-BBAF-DD61D8C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6970A-2C0B-4D43-B920-FA37834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84C9BA-5690-42AB-BDA5-D0AE8F3E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BBD84-CC20-41E5-8888-2C26DFBF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4B16C-D67C-4822-AF66-C8F64D3D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885B-42E2-4627-934A-5D6EE326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63277-7561-40C6-953F-01CB171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1E98A-9FE9-4B68-B5E9-4E85CD0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066528-1326-4864-B518-2DA046F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02E6D-FDF1-4987-A33B-054B893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EA8E9-5DDE-4BED-936F-9A3EA94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19F4C-2287-4656-AB9D-D4DB2DD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0F4F6-A277-47ED-84A2-86F3055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E96706-2657-45FD-B96B-5F10EFC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B8F13-126E-4629-B38D-FD87640B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AE508-408F-42D6-8E23-677494CE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FE4F-1DC9-468D-B652-83F9CE54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0659B-88F7-46E2-A195-F11EFA84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EEDFB2-11E9-4C03-93DA-64D262D8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59A5F-8F05-4720-A820-A762BD8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5ED60-177F-4A33-801E-DAED639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E4C95-355C-4795-BC2D-EFE1980E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BBB14-0480-4C2C-B7F9-2E211D27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FF5A7-E24C-486C-B944-81053051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2FA26-C647-455B-858B-4E1806A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99EAE-40A8-4225-A67B-F3D0A7E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2CDE1-8665-4249-AAB3-7EDAC61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899B-9E0D-486F-BEA9-94C899D1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73858-01AE-439B-91A8-B8149DF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DE206-D26A-4827-AF89-D496BB3E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22FB8-2FA9-4C06-9B5B-FCBDD6C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35C8-63EB-41C4-B9B5-262B8BD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D976-2A71-49AC-A9F2-580E3E0E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AD79-FE09-4D72-A497-7B2DC5BD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690D-A265-422A-B24A-56AF159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4D4-EFF9-4E20-9B4F-ED4738A9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6029-A27E-4835-A772-4BB94570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1432-DD89-40D8-B264-B2E6EAE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BE83E-F0C3-4C85-8A3F-CFEE3FE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B81F-B4C5-4F58-A842-71098F3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E6D4-A25F-4D62-92F6-E01B5D9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9DC2-9021-4762-9256-6A5FAF45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461A-D1FB-41D0-AA61-C720F5D5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C2E3E-F647-4DC4-B511-64B67789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BC34-54CB-4E97-9C37-E373924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6332-5A3B-427C-B23E-C36AA334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70B-9D5A-42BE-B120-E210750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888E-E9EA-4AEF-9F4E-15F18CF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6594-1392-4699-835C-5118F4B9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9D46-829E-48A3-9147-7168891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B351-86CF-4759-8CFC-AFECF2D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2032-8DF6-48B0-AA8C-376B6E2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1E1E-1A5D-4D20-98BC-1FB17EB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4FEA-E663-45CC-A11C-FF2FCFDF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D48FC-E678-4685-916B-E25644F6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E721-07CB-4CDF-80D4-33198063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1DFE-40A2-4E17-8567-05C91555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C43-62C8-4830-B62E-64E2338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FBF6-957C-432C-A2D7-1C85A7DE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D7ED-8433-4D3B-8DE5-A201132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6375-118D-477B-8425-60D1D1B2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F4A68-90F2-4095-9C90-35747FBA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B438-F6BE-4B5C-ADA1-C0DD59C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20EE-CBF5-4A31-BA24-12029308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0588-3958-41A3-A558-D9CFBB7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39063-8A58-420F-9037-4885B17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776C-B724-4101-8B56-1065E38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D256-70AF-453B-9571-AA2D0E71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7F1-44C1-4185-AF86-B6078977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7A61-50FF-4D77-A242-21927CDE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D029-7C4B-4727-9EF5-FEF6E1BA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93135-EC2B-4A9D-B2D3-84DD5FC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C0C7D-1C46-4A9D-A15D-60B85284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DB053-BF5D-41CB-B368-B7A240A6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9D25A-6129-423C-917B-12A017A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A37B-1A2D-4C1C-823E-CD1C092A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86FA-39BF-4658-91B0-C3718E8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00F7-A950-4F68-B264-D19EFF9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B22A-C376-4845-B2DE-09CFD39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8F6-194B-4755-AE5A-1BCA3AC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E625-40DF-48D6-AD1F-79E3DC1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68662-0C79-4F6B-A22D-FE8E897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91312-D915-47CF-A163-C3F626C5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9361-1EBD-4475-BD56-5DDA8F33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EFFA-61ED-40B1-8D78-B3A1CD42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8388-89AE-47FD-8190-5066FA1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BBDFF-0FDA-4DB4-B6FC-8DE3132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EF4A-E4A7-4F6E-A5D2-8E6236E5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C7E38-8654-4674-B407-81B2B995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4B2F-EF97-49B0-973C-1FCA7C8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4FF-101A-4E8D-AD0F-1913B564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D7B39-19B5-433E-BB83-3D1EBF87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68887-52E2-4F92-B3C3-762ECF5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A442-683B-469F-9D6C-78AF5755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AE59-CB35-45C3-A2B7-C9D89368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5A5A5-9C35-4BC3-AF3F-2D0FBA1C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5EA3-8ED5-49ED-9AD4-8AEAB4C4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D079B-D14F-442D-B594-DA58DDA2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711E-DFAD-42F8-B722-6EED95D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416C2-DA69-4FC2-8F9D-BDE5B4FA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5341-3DAB-469C-84D8-387F722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663-BCC0-41D7-86DB-2604CC1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98BB8-10BE-4905-AF11-D197C2CA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D074-9803-4BE9-B5FA-61EF047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42EBE-CE2A-4D37-B2D1-AC07175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85CD-7806-4709-8108-D77EEA1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D55E-7496-4390-8A61-DD89A1B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72608-946F-4AEA-842A-0BBAD0D1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FE04-07D2-4185-A75E-D224C9F7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D3E65-1843-48BD-B210-93426E47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7DF90-EF9E-4829-B4A9-EF71D485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A2F9-AB1A-42A9-9504-0DEF44C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508-5C9B-4EB5-BAA1-4E77EC273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25C0-35A0-4D89-949B-AA94B374A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6609-903B-4D76-9517-CF495C452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BB0D-6962-4AE4-AD87-ABABE983F5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751-94B5-4E6D-8259-82E8390F0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39C-864C-4ABD-96F3-30A053DFA4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97D7-94A5-4274-A21C-818BC0A98F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1F8-7595-48B2-B457-517A1157F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F3B7-13B5-436C-818C-5EA62BFE11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8BC9-41DE-4638-89EE-144DE82E0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FA0F-4186-43C5-A3AA-4C0126D61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3FD2-D9B0-4B24-9718-E15A8CAF2E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9297-A9D8-4163-8689-54E074E3B0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53E-BA48-4BAC-ACDB-FD06DAB290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D6ED-F606-45E8-83D7-C9A5050E96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3558-32DB-489B-B46B-1ECAE5348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DE4-3547-4301-953D-17604E28C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88DC-BFA4-480C-A15D-9CD608F201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AE0-C0F9-463A-B556-38C1A58E26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868-1A48-4EB4-9FDD-5F9D732B4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09C-1065-4AFB-B2AF-FE697A2CF3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DEA8-85D3-4F6D-B34B-A6E6BC0EB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6710-FDC0-4B48-A51F-696EAC0ABC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7C34-6477-46AC-9257-D5AF7AC4F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D5B7-D2FD-4A06-AD34-21AE567DE6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C16-0C22-48B2-9640-B32997EB1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F88C-B533-4CCD-A89C-DD88389B4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2E41-A554-4A29-8EA1-3F5CB8CA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22E-79F8-4BDE-B5C8-531EB60AF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251-848C-4CC7-888C-D10E82D04D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7DD-8E67-41BE-AB3F-E2DAE6528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BC01-E3CD-4E90-8CD9-85D57C584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9835-2243-4D7B-99DA-F756A7E5F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A5E-50AE-4F30-BAA8-B4812BF97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8956-1EF8-44C8-945A-E94123052E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6080-2FB5-4B11-B91C-847F638BC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0F79-97BC-44AF-A21E-23010DDD7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CE2E-92E6-42D1-93B5-4893F29D59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377-E9AA-4C29-9009-6E514E0FC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9FE-0D64-40D4-87F1-F8EEE99CC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2933640"/>
            <a:ext cx="9163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7886520" cy="5600880"/>
          </a:xfrm>
          <a:prstGeom prst="rect">
            <a:avLst/>
          </a:prstGeom>
          <a:ln w="0">
            <a:noFill/>
          </a:ln>
        </p:spPr>
      </p:pic>
      <p:sp>
        <p:nvSpPr>
          <p:cNvPr id="1064" name="矩形 2"/>
          <p:cNvSpPr/>
          <p:nvPr/>
        </p:nvSpPr>
        <p:spPr>
          <a:xfrm>
            <a:off x="1214280" y="92880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3"/>
          <p:cNvSpPr/>
          <p:nvPr/>
        </p:nvSpPr>
        <p:spPr>
          <a:xfrm>
            <a:off x="1143000" y="178596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4"/>
          <p:cNvSpPr/>
          <p:nvPr/>
        </p:nvSpPr>
        <p:spPr>
          <a:xfrm>
            <a:off x="1214280" y="271476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"/>
          <p:cNvSpPr/>
          <p:nvPr/>
        </p:nvSpPr>
        <p:spPr>
          <a:xfrm>
            <a:off x="1214280" y="357192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6"/>
          <p:cNvSpPr/>
          <p:nvPr/>
        </p:nvSpPr>
        <p:spPr>
          <a:xfrm>
            <a:off x="1143000" y="450072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7"/>
          <p:cNvSpPr/>
          <p:nvPr/>
        </p:nvSpPr>
        <p:spPr>
          <a:xfrm>
            <a:off x="1143000" y="535788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33520" y="909720"/>
            <a:ext cx="8076960" cy="50385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4289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857160" y="4143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8010360" cy="60199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714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4289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40719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76360" y="1666800"/>
            <a:ext cx="7991280" cy="352440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17859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857160" y="3500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581040" y="1452600"/>
            <a:ext cx="7981920" cy="3952800"/>
          </a:xfrm>
          <a:prstGeom prst="rect">
            <a:avLst/>
          </a:prstGeom>
          <a:ln w="0">
            <a:noFill/>
          </a:ln>
        </p:spPr>
      </p:pic>
      <p:sp>
        <p:nvSpPr>
          <p:cNvPr id="1034" name="矩形 2"/>
          <p:cNvSpPr/>
          <p:nvPr/>
        </p:nvSpPr>
        <p:spPr>
          <a:xfrm>
            <a:off x="5214960" y="2857680"/>
            <a:ext cx="5000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"/>
          <p:cNvSpPr/>
          <p:nvPr/>
        </p:nvSpPr>
        <p:spPr>
          <a:xfrm>
            <a:off x="6357960" y="2857680"/>
            <a:ext cx="7142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"/>
          <p:cNvSpPr/>
          <p:nvPr/>
        </p:nvSpPr>
        <p:spPr>
          <a:xfrm>
            <a:off x="7715160" y="2857680"/>
            <a:ext cx="5000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1000080" y="5000760"/>
            <a:ext cx="17146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3357720" y="500076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42880" y="1500120"/>
            <a:ext cx="8058240" cy="385776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5072040" y="1928880"/>
            <a:ext cx="500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6215040" y="1978200"/>
            <a:ext cx="7858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7643880" y="2000160"/>
            <a:ext cx="500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4146480" y="3228840"/>
            <a:ext cx="85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5351400" y="3214800"/>
            <a:ext cx="132408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7"/>
          <p:cNvSpPr/>
          <p:nvPr/>
        </p:nvSpPr>
        <p:spPr>
          <a:xfrm>
            <a:off x="3429000" y="4143240"/>
            <a:ext cx="853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8"/>
          <p:cNvSpPr/>
          <p:nvPr/>
        </p:nvSpPr>
        <p:spPr>
          <a:xfrm>
            <a:off x="4643280" y="4143240"/>
            <a:ext cx="85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9"/>
          <p:cNvSpPr/>
          <p:nvPr/>
        </p:nvSpPr>
        <p:spPr>
          <a:xfrm>
            <a:off x="5857920" y="4143240"/>
            <a:ext cx="853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0"/>
          <p:cNvSpPr/>
          <p:nvPr/>
        </p:nvSpPr>
        <p:spPr>
          <a:xfrm>
            <a:off x="7286760" y="4143240"/>
            <a:ext cx="853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1"/>
          <p:cNvSpPr/>
          <p:nvPr/>
        </p:nvSpPr>
        <p:spPr>
          <a:xfrm>
            <a:off x="1285920" y="4572000"/>
            <a:ext cx="12142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2"/>
          <p:cNvSpPr/>
          <p:nvPr/>
        </p:nvSpPr>
        <p:spPr>
          <a:xfrm>
            <a:off x="3286080" y="4572000"/>
            <a:ext cx="85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533520" y="1009800"/>
            <a:ext cx="8076960" cy="48384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3071880" y="1500120"/>
            <a:ext cx="11574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3286080" y="2357280"/>
            <a:ext cx="1285920" cy="365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4286160" y="3214800"/>
            <a:ext cx="13575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4140360" y="4106880"/>
            <a:ext cx="15714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2428920" y="5000760"/>
            <a:ext cx="10713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532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76280" y="576360"/>
            <a:ext cx="8191440" cy="570528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1071720" y="2786040"/>
            <a:ext cx="4284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928800" y="3714840"/>
            <a:ext cx="4284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928800" y="4500720"/>
            <a:ext cx="4284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1000080" y="5429160"/>
            <a:ext cx="42876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0:4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